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093DB-8977-4A64-8D08-E9D50DE8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52944-C148-44BD-8B81-1ABFE58A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49A3A-32DA-41EF-9D2C-36FEC0CB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3A90-B87E-4F58-AD41-F134F52A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F380-6C9A-4715-9C4C-4F055177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01DA-208D-4208-8488-3662D60B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3A76-86CC-45D5-9486-FBE398F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F91C-E49F-4E2D-85A3-A49FA455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93D3-FD6C-4BDE-9DAC-B8E3F5F3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1D15-B025-4ECE-A01F-A58483DD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1778-8AA9-4017-B6DF-61551B70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2028-2982-4263-8224-B65E13A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9718-706D-45C7-B0AB-FEC8CB1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19AE-D083-4258-A0FD-C6964D7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ACEF-EE6F-42C3-AC74-C74A9D91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B0E85-8D75-47E5-83DF-1B4A55A9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7BE4-37A0-49DB-9BAB-7232C112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D997A-FD19-43F2-9B32-D86A3A8D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16C5-D7B8-4A58-8E50-0C20D627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E11C9-8C16-41B1-ACFE-F8C67C62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512F-F8B3-485B-8FBA-2E20D66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5B94-3923-4319-A7A2-8EEAB7F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37A75-1209-4742-B099-E40111DA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DD74E-40D0-4087-82B3-3ADF780B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F49E-502D-4BCA-9352-4DADD5193F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9D61-D982-41F5-90D4-4D6E4681F9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w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ytwarzanie energii elektry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2349360"/>
            <a:ext cx="3024000" cy="410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27080" y="589752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anuta Gąsio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ow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n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sta skrzydł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ł skrzydło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zekład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źwi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n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irnik opisywanego wiatraka składa się z 12 jednakowych skrzydeł. Skrzydła te wykonane są z blachy aluminiowej o grubości 3mm. Skrzydło ma kształt trapezu prostokątnego o wymiarach 1000x200 m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źwig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ę dźwigara, czyli elementu nośnego skrzydła spełnia rura stalowa o średnicy 3/4". Jest to rura bez szwu, o długości 1m. Rura ta narażona jest podczas pracy na rozrywanie, zginanie i skręcanie, dlatego na dźwigar należy wykorzystywać tylko elementy nowe i dobre gatunkowo. Do każdego dźwigara przymocowane są trzy płaskowniki (o długości 100mm każdy), do których przytwierdzone jest skrzydło za pomocą śru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owanie skrzyde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0563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MOST OBROTOWY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(GŁOWICA WIATRAKA) I WIEŻ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most obrotowy, czyli głowica wiatraka - jest to konstrukcja mogąca obracać się wokół osi pionowej, umieszczona na wierzchołku wieży, do której umocowane są mechanizmy wiatraka. Obrót głowicy powodowany jest przez mechanizm orienta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ŁAD STEROWY: MECHANIZMY ZATRZYMYWANI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ZABEZPIECZENIA PRZECIWBURZOWEG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ustawiania zespołu wiatraka zgodnie z kierunkiem wiatru służy ster ogonowy. Wykonany jest on z blachy aluminiowej o grubości 3mm, przytwierdzonej do wysięgnika z rury stalowej bez szwu (1 3/4"). Ster ten osadzony jest przegubowo i przytrzymywany w położeniu osiowym (zgodnie z osią koła wiatrowego) łańcuchem regulacyjnym. Oprócz steru głównego, do głowicy przymocowany jest pod kątem prostym do osi wirnika ster bocz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 instalacji elektryczne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07280" cy="43704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arma morska w Utgrunden oraz lądowe wiatrownie w Alsvik (południowa Gotlandia)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608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dzaje elektrow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wencjonal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ądr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atrow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łonecz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ktrownia wiatr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65320" y="2090880"/>
            <a:ext cx="3219480" cy="3666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6400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rowadze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dyby porównać rozwój technologii w dziedzinie energetyki wiatrowej, jaki się dokonał w ciągu ostatnich 10 lat - do jakiejkolwiek innej gałęzi przemysłu, to można z całą pewnością stwierdzić, iż niewiele jest takich sektorów gospodarki, które pochwalić się mogą równie dynamicznym i efektywnym wzrostem. Blisko 10 lat temu najczęściej montowana turbina wiatrowa nie posiadała zaawansowanych systemów sterowania, miała generator o mocy nominalnej 0,3MW, a jej średnica wirnika nie przekraczała 30 metrów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55-19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ednica wirnika do 15 m, małe domowe siłownie, poszukiwanie rozwiązań problemów teoretycznych, brak międzynarodowych standard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5-198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ednica wirnika osiąga do 30 metrów. Pierwsze seryjne siłownie wiatrowe. Początki tworzenia standardów przemysłowy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9-199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rednica wirnika od 30 do 50 m. Produkcja masowa siłowni o mocy 600 k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94-200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rednica wirnika ponad 50 m. Przyspieszenie rozwoju technologicznego. Powstają w krótkim okresie czasu kolejno siłownie o mocy 850 kW, 1 MW, 1,5 MW, 2 MW i więce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ład konstrukcyj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896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1:16:20Z</dcterms:created>
  <dc:creator>administrator</dc:creator>
  <dc:description/>
  <dc:language>en-US</dc:language>
  <cp:lastModifiedBy>Administrator</cp:lastModifiedBy>
  <dcterms:modified xsi:type="dcterms:W3CDTF">2003-03-21T12:06:55Z</dcterms:modified>
  <cp:revision>10</cp:revision>
  <dc:subject/>
  <dc:title>Elektrownie</dc:title>
</cp:coreProperties>
</file>